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219-60A7-48B4-9835-B2CF4107E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8C84-1158-4573-894B-C608091E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52F0-EF65-4857-BE7B-0FC23F43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79D-F0D6-42A7-8054-391B396E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04EF-9D49-4EC7-A466-A3A3662D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0002-6D6D-477D-A44C-C60722165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792D-96B9-47D9-8539-873C3B81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001-97DD-4F12-9713-AABAF8A3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1E1E-EA1A-4BE4-B228-6F1D6D03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96C9-852B-4DE6-8616-CAAFEE17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B585-194E-4026-8864-8086EA5C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50A-8D72-4A06-AA1F-B8502C4A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47D3-811A-4A6F-A468-B29643CD49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db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0"/>
          <p:cNvGrpSpPr/>
          <p:nvPr/>
        </p:nvGrpSpPr>
        <p:grpSpPr>
          <a:xfrm>
            <a:off x="-36360" y="0"/>
            <a:ext cx="539280" cy="6858000"/>
            <a:chOff x="-36360" y="0"/>
            <a:chExt cx="539280" cy="6858000"/>
          </a:xfrm>
        </p:grpSpPr>
        <p:sp>
          <p:nvSpPr>
            <p:cNvPr id="42" name="Rectangle 17"/>
            <p:cNvSpPr/>
            <p:nvPr/>
          </p:nvSpPr>
          <p:spPr>
            <a:xfrm>
              <a:off x="-36360" y="0"/>
              <a:ext cx="27900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8"/>
            <p:cNvSpPr/>
            <p:nvPr/>
          </p:nvSpPr>
          <p:spPr>
            <a:xfrm>
              <a:off x="334800" y="0"/>
              <a:ext cx="5652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19"/>
            <p:cNvSpPr/>
            <p:nvPr/>
          </p:nvSpPr>
          <p:spPr>
            <a:xfrm>
              <a:off x="446760" y="0"/>
              <a:ext cx="56160" cy="685800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9"/>
          <p:cNvSpPr/>
          <p:nvPr/>
        </p:nvSpPr>
        <p:spPr>
          <a:xfrm rot="16200000">
            <a:off x="4596480" y="-3869280"/>
            <a:ext cx="504720" cy="8475480"/>
          </a:xfrm>
          <a:prstGeom prst="octagon">
            <a:avLst>
              <a:gd name="adj" fmla="val 2928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Формирование раздела 2.5.2 для корректирующих форм документов за периоды 2010-2013 с использованием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PU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_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rb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бъект 2"/>
          <p:cNvSpPr/>
          <p:nvPr/>
        </p:nvSpPr>
        <p:spPr>
          <a:xfrm>
            <a:off x="611280" y="620640"/>
            <a:ext cx="847548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1. формирование корректирующей формы СЗВ-6-1, СЗВ-6-2 или СЗВ-6-4 в соответствующем режиме (ИС +АДВ-6-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. выгрузка сформированных корректирующих форм в отдельный катало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. в режиме формирования расчета с 2014 года во вкладке подраздела 2.5.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1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значений вручную по кнопке добави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2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 файла(ов) по кнопке «добавить из файла» либо «добавить из всех файлов» в этом случае необходимо будет дозаполнить суммы доначисленных страховых взно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300"/>
              </a:spcBef>
              <a:buClr>
                <a:srgbClr val="4f009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4f009e"/>
                </a:solidFill>
                <a:uFillTx/>
                <a:latin typeface="Arial"/>
              </a:rPr>
              <a:t>3 вариант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заполнение из</a:t>
            </a:r>
            <a:r>
              <a:rPr b="1" lang="en-US" sz="1200" spc="-1" strike="noStrike">
                <a:solidFill>
                  <a:srgbClr val="4f009e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АДВ-6-2  по кнопке «добавить из АДВ-6-2», в этом случае необходимо будет дозаполнить сведения о корректируемых отчетном периоде и год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03320" y="2554200"/>
            <a:ext cx="4024080" cy="219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2"/>
          <a:stretch/>
        </p:blipFill>
        <p:spPr>
          <a:xfrm>
            <a:off x="503280" y="4673520"/>
            <a:ext cx="3854520" cy="210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3"/>
          <a:stretch/>
        </p:blipFill>
        <p:spPr>
          <a:xfrm>
            <a:off x="4703760" y="4749840"/>
            <a:ext cx="4260960" cy="2171520"/>
          </a:xfrm>
          <a:prstGeom prst="rect">
            <a:avLst/>
          </a:prstGeom>
          <a:ln w="0">
            <a:noFill/>
          </a:ln>
        </p:spPr>
      </p:pic>
      <p:sp>
        <p:nvSpPr>
          <p:cNvPr id="50" name="Объект 2"/>
          <p:cNvSpPr/>
          <p:nvPr/>
        </p:nvSpPr>
        <p:spPr>
          <a:xfrm>
            <a:off x="4500720" y="4869000"/>
            <a:ext cx="1366560" cy="28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3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4643280" y="2529000"/>
            <a:ext cx="4321440" cy="2144520"/>
          </a:xfrm>
          <a:prstGeom prst="rect">
            <a:avLst/>
          </a:prstGeom>
          <a:ln w="0">
            <a:noFill/>
          </a:ln>
        </p:spPr>
      </p:pic>
      <p:sp>
        <p:nvSpPr>
          <p:cNvPr id="52" name="Объект 2"/>
          <p:cNvSpPr/>
          <p:nvPr/>
        </p:nvSpPr>
        <p:spPr>
          <a:xfrm>
            <a:off x="4313160" y="2637000"/>
            <a:ext cx="1411200" cy="287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4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009e"/>
                </a:solidFill>
                <a:latin typeface="Arial"/>
              </a:rPr>
              <a:t>2 вариа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77440" y="6453360"/>
            <a:ext cx="2872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03:04:10Z</dcterms:created>
  <dc:creator>1006</dc:creator>
  <dc:description/>
  <dc:language>en-US</dc:language>
  <cp:lastModifiedBy>opfr</cp:lastModifiedBy>
  <dcterms:modified xsi:type="dcterms:W3CDTF">2014-04-09T07:10:52Z</dcterms:modified>
  <cp:revision>63</cp:revision>
  <dc:subject/>
  <dc:title>Слайд 1</dc:title>
</cp:coreProperties>
</file>